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8011-A30D-4A86-A525-37262E4B403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D11F5-7550-4085-B1C9-DC22F4151345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Palatino Linotyp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5E7F-B307-4E80-B731-7563D752DFB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41F9-5D36-4A1F-86C7-B05F68CED39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0B4D9-AA08-4E6A-8C49-C4A0A9A1FF0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112E-4AAD-456B-A32F-19955DCDD0F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836B-3C60-4F44-893B-20505F0D069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7C9EA-CDE7-4127-8F95-833C55D0AA5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AF22-8A2F-446E-AD19-E537A9B5EF7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EA5F-0405-4769-8790-190A7E41208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5899-2954-485C-9986-783CB3F3160C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2A75-AAE2-41EF-8ED8-CEC782E78277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514E-E0E3-4192-BC55-5F0B4B017E1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CACD-2CFB-4208-9FF2-0FC40355BC3A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FD75-8B23-4D38-8F94-3156ADA4D29B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5130-FC7A-42C5-93F7-DE095F285C2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E1252-E7DA-4FDB-9DEF-17C9FAFE4C4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881C7-1A1C-48EA-AFC2-7E3FBCF3481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E2A4-785A-4DEE-B0E3-729D43D3E22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0443-044F-4F9C-895A-FB9091B3F978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0D22-442D-467D-8553-9358A1E244B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0FDE-5E06-4FBA-98C9-B584D1BDE5B3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5833-6A3B-48B3-A836-52949510392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9BA8-9CE6-4657-BF57-506DE1E5F672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D3DA-7F88-4E9B-9C63-809671AB0846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Palatino Linotype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54AE-1596-4806-8F82-ED1B28F8C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3103-21B0-41A0-A7B0-DF8E385B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E3F0-AE92-4F52-A923-D18DE74B2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F74B-D52E-4BCA-A68B-619A82C94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CE3A-475D-47D0-A3DA-833CF8B9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7A4-A7B4-4E88-BBF2-A3121E62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3FF5-F664-4210-8EEA-A3F5ECEB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1D5-F6FA-4E07-859B-D0B76031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74C-06A0-417E-92F7-81653737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5B4D-26B3-4963-9FFF-29EE06C8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D37-5CE1-44BA-88C0-59EC560F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CC2D-61AB-418C-817B-50AEF7A1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4B84-79AC-48F6-8170-0DD42EBE947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81DE4-18BD-4949-A149-31D3680718F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ЗУБА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63160" y="4060440"/>
            <a:ext cx="8642520" cy="17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7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9 - 21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Узроци импакције зуба, дијагноза и третман импактираних зуба, вађење        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импактираних зуба, компликације изазване вађењем импактираних зуба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91480" y="6180120"/>
            <a:ext cx="782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3"/>
          <p:cNvSpPr/>
          <p:nvPr/>
        </p:nvSpPr>
        <p:spPr>
          <a:xfrm>
            <a:off x="0" y="6424560"/>
            <a:ext cx="392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CDBA-1577-40FA-89D8-7B21D24987A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433440" y="1455840"/>
            <a:ext cx="8253360" cy="44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импактираних зуба може бити усмерен ка њиховом чувању и потпомагању њиховог ницања или ка њиховом вађењу, а у извесним случајевима се третман одлаже или се од третмана одуста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импактираног зуба може бити усмерен 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Хируршко – ортодонтски поступ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филактичко вађ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апијско вађ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лагање третмана или одустајање од третм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3"/>
          <p:cNvSpPr/>
          <p:nvPr/>
        </p:nvSpPr>
        <p:spPr>
          <a:xfrm>
            <a:off x="0" y="6424560"/>
            <a:ext cx="3814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5974-98D7-4FBC-8D7C-B7729D89D25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444600" y="1623960"/>
            <a:ext cx="821844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етман неизниклих зуба зависи првенствено о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цене могућности њиховог ниц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арости пациј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пштег здравственог ст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сутних симптома и патолошких проме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15" name="Date Placeholder 3"/>
          <p:cNvSpPr/>
          <p:nvPr/>
        </p:nvSpPr>
        <p:spPr>
          <a:xfrm>
            <a:off x="0" y="6424560"/>
            <a:ext cx="3894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4274-23E9-462D-BA49-869A311ACF7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9"/>
          <p:cNvSpPr/>
          <p:nvPr/>
        </p:nvSpPr>
        <p:spPr>
          <a:xfrm>
            <a:off x="420840" y="1455840"/>
            <a:ext cx="82533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ИНДИКАЦИЈЕ ЗА ТЕРАПИЈСКО ВАЂЕЊЕ ИМПАКТИРАНИХ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сумњива индикација за терапијско вађење импактираних зуба постоје када се јави нека од компликација или ако би требало благовремено спречити њихов настан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коронити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запаљење гингиве око зуба. Најчешће захвата доње умњаке, првенствено ако су полуимпактирани и ако им је део круне ван кости прекривена меким тк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9B46-0CC0-407E-98C7-AAEA82C226E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69800" y="1731960"/>
            <a:ext cx="846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слабог самочишћења, храна запада у простор између оклузалне површине зуба и гингиве, изазивајући њену инфламацију, коју додатно трауматизира зуб антагони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577800" y="5200560"/>
            <a:ext cx="835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треба  учинити што пре, препоручљиво је и пре санирања знакова инфекције, због могућег ширења инфекције у околне просторе. Ординирати антибиотик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D:\User\Korisnik\Downloads\m4_slide18_pericor2.gif"/>
          <p:cNvPicPr/>
          <p:nvPr/>
        </p:nvPicPr>
        <p:blipFill>
          <a:blip r:embed="rId1"/>
          <a:stretch/>
        </p:blipFill>
        <p:spPr>
          <a:xfrm>
            <a:off x="2808360" y="2957400"/>
            <a:ext cx="284328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0" y="6424560"/>
            <a:ext cx="38307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5BED-5254-455E-BA8E-40462D163FD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0"/>
          <p:cNvSpPr/>
          <p:nvPr/>
        </p:nvSpPr>
        <p:spPr>
          <a:xfrm>
            <a:off x="457200" y="1684440"/>
            <a:ext cx="81327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тварање пародонталног џепа око сусед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е се јавља са дисталне стране другог молара, ако је реч о импактираном трећем молару или са дисталне стране латералног секутића ако је импактиран очњ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6" descr="dzep.jpg"/>
          <p:cNvPicPr/>
          <p:nvPr/>
        </p:nvPicPr>
        <p:blipFill>
          <a:blip r:embed="rId1"/>
          <a:stretch/>
        </p:blipFill>
        <p:spPr>
          <a:xfrm>
            <a:off x="3048120" y="3570120"/>
            <a:ext cx="272736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21DB-2A27-435D-BBA6-A181DE7B07E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57200" y="1708200"/>
            <a:ext cx="8145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ариј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пактирани зуб може да изазове каријес суседног зуба, поготову уколико је у контакту са њим. Каријес може да се јави и на самом импактираном зубу, поготову ако је полуимпакти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есорпција корена суседног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отреба израде протетичког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Б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0" y="6424560"/>
            <a:ext cx="379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7E91-DC8D-497C-8A1E-5E683429C78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469800" y="1647720"/>
            <a:ext cx="81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атолошки процеси ( цисте, тумори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0" descr="C:\Users\Zoran\Downloads\oralna hirurgija\slike\imagelo.jpg"/>
          <p:cNvPicPr/>
          <p:nvPr/>
        </p:nvPicPr>
        <p:blipFill>
          <a:blip r:embed="rId1"/>
          <a:stretch/>
        </p:blipFill>
        <p:spPr>
          <a:xfrm>
            <a:off x="1878120" y="2155680"/>
            <a:ext cx="5362560" cy="212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C:\Users\Zoran\Downloads\oralna hirurgija\slike\imagesvbvc.jpg"/>
          <p:cNvPicPr/>
          <p:nvPr/>
        </p:nvPicPr>
        <p:blipFill>
          <a:blip r:embed="rId2"/>
          <a:stretch/>
        </p:blipFill>
        <p:spPr>
          <a:xfrm>
            <a:off x="1868400" y="4282920"/>
            <a:ext cx="5359320" cy="20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Date Placeholder 3"/>
          <p:cNvSpPr/>
          <p:nvPr/>
        </p:nvSpPr>
        <p:spPr>
          <a:xfrm>
            <a:off x="0" y="6424560"/>
            <a:ext cx="3798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3D1A-E0CC-444E-BE57-99FCF4CADAB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ретман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444600" y="1623960"/>
            <a:ext cx="8254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отенцирање ортодонтских аномал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некад је потребно вађење појединих импактираних зуба пре почетка ортодонтског лечења, чиме би се онемогућило њихово негативно деловање на процес санирања аномалије (најчешће тескобе зубног низ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Зуб у линији фрактуре ви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колико се, приликом фрактуре вилице, импактирани зуб нађе у линији фрактуре, његово вађење је готово по правилу индиковано да би се санација фрактуре постигла без комплик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1D296-5D5F-47A4-80C4-61D8ECDD115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ађење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3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6"/>
          <p:cNvSpPr/>
          <p:nvPr/>
        </p:nvSpPr>
        <p:spPr>
          <a:xfrm>
            <a:off x="469800" y="1731960"/>
            <a:ext cx="8169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импактираних зуба понекад може бити лако, међутим, у извесним ситуацијама ова интервенција се може пролонгирати што зависи од низа чинилаца који на њу утичу и који је усмерав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Морфологија зуба, формираност корена, компактност и густина кости, близак контакт са суседним зубом, близина максиларног синуса и мандибуларног кан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9029-FCE4-4E58-9C6E-D9100CDDAF2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469800" y="1492200"/>
            <a:ext cx="81583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дставља једну од најчешћих орално-хируршких интервен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 поступка вађења потребно је детаљно се упознати са клиничким изгледом зуба, његовом морфологијом, односом са околним анатомским структур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ВИНТЕРОВ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асификација импактираног доњег умњака у односу према другом молару и оклузалној равни (</a:t>
            </a:r>
            <a:r>
              <a:rPr b="0" lang="sr-CS" sz="2000" spc="-1" strike="noStrike">
                <a:solidFill>
                  <a:srgbClr val="00b050"/>
                </a:solidFill>
                <a:latin typeface="Palatino Linotype"/>
              </a:rPr>
              <a:t>вертикалан, хоризонталан,</a:t>
            </a:r>
            <a:r>
              <a:rPr b="0" lang="en-US" sz="2000" spc="-1" strike="noStrike">
                <a:solidFill>
                  <a:srgbClr val="00b05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b050"/>
                </a:solidFill>
                <a:latin typeface="Palatino Linotype"/>
              </a:rPr>
              <a:t>мезиоангуларан,</a:t>
            </a:r>
            <a:r>
              <a:rPr b="0" lang="en-US" sz="2000" spc="-1" strike="noStrike">
                <a:solidFill>
                  <a:srgbClr val="00b05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b050"/>
                </a:solidFill>
                <a:latin typeface="Palatino Linotype"/>
              </a:rPr>
              <a:t>дистоангуларан, букални, лингвални, обрнут и атипични положај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7" descr="C:\Users\Zoran\Downloads\oralna hirurgija\slike\imagesvfds.jpg"/>
          <p:cNvPicPr/>
          <p:nvPr/>
        </p:nvPicPr>
        <p:blipFill>
          <a:blip r:embed="rId1"/>
          <a:stretch/>
        </p:blipFill>
        <p:spPr>
          <a:xfrm>
            <a:off x="2790720" y="4403880"/>
            <a:ext cx="4091040" cy="205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6530-BE5A-4F67-9DF6-AEB5B3CA102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Појам импакције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420840" y="1733400"/>
            <a:ext cx="82422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ермин </a:t>
            </a: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импактирани зуб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значава зуб који није никао зато што му је нормалан пут ницања ометен или блокиран неком препреком, која може бити други зуб, вилична кост или нека патолошка творевина у кости или меком ткиву на путу његовог ница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Неизникли зуб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значава да зуб није видљив у усној шупљини приликом клиничког прегледа, без обзира на разлоге његовог одсуства или разматрања могућности да он никне у времену које је за то предвиђе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елимично изникли зуб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ли полуимпактирани зуб, означава се зуб који је делимично видљив у усној шупљини, а  делимично је прекривен меким тки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AF5B-6CDB-4923-B100-0AB31D1397D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457200" y="1671480"/>
            <a:ext cx="8169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намичка процена предстојеће интервенције врши се обрнутим редом од реда поступака при самом вађењу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) процену пута извлачењ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) уочавање препрека да би се он испоштова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Ц) начин превазилажења уочених преп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) технику вађења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) планирање одговарајућег мукопериосталног реж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7" descr="C:\Users\Zoran\Downloads\oralna hirurgija\slike\imagespopopo.jpg"/>
          <p:cNvPicPr/>
          <p:nvPr/>
        </p:nvPicPr>
        <p:blipFill>
          <a:blip r:embed="rId1"/>
          <a:srcRect l="6363" t="27922" r="27034" b="15489"/>
          <a:stretch/>
        </p:blipFill>
        <p:spPr>
          <a:xfrm>
            <a:off x="2346480" y="4259160"/>
            <a:ext cx="381924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0" y="6424560"/>
            <a:ext cx="38149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8FE5-9845-491F-A0D0-5E05A259FB1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444600" y="1708200"/>
            <a:ext cx="820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лизина мандибуларног канала захтева посебну пажњу приликом планирања вађења доњег импактираног трећег мола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C:\Users\Zoran\Downloads\oralna hirurgija\slike\imagesjhjh.jpg"/>
          <p:cNvPicPr/>
          <p:nvPr/>
        </p:nvPicPr>
        <p:blipFill>
          <a:blip r:embed="rId1"/>
          <a:stretch/>
        </p:blipFill>
        <p:spPr>
          <a:xfrm>
            <a:off x="357120" y="2376360"/>
            <a:ext cx="3672000" cy="406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4" descr="784_2008_200_Fig3_HTML"/>
          <p:cNvPicPr/>
          <p:nvPr/>
        </p:nvPicPr>
        <p:blipFill>
          <a:blip r:embed="rId2"/>
          <a:stretch/>
        </p:blipFill>
        <p:spPr>
          <a:xfrm>
            <a:off x="4167360" y="2463840"/>
            <a:ext cx="4751280" cy="19558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4138560" y="46990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Ако светлина траке мандибуларног канала укршта сенку коренова умњака без промене интензитета његове сенке и уз очување линија крова и пода канала, највероватније се ради само о суперпозицији</a:t>
            </a:r>
            <a:r>
              <a:rPr b="0" lang="en-US" sz="18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Date Placeholder 3"/>
          <p:cNvSpPr/>
          <p:nvPr/>
        </p:nvSpPr>
        <p:spPr>
          <a:xfrm>
            <a:off x="0" y="6424560"/>
            <a:ext cx="3753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F3A9D-57B7-4435-ACA1-BFFEDA1FC9E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79" name="Picture 7" descr="impakcije044"/>
          <p:cNvPicPr/>
          <p:nvPr/>
        </p:nvPicPr>
        <p:blipFill>
          <a:blip r:embed="rId1"/>
          <a:srcRect l="0" t="3273" r="19289" b="50580"/>
          <a:stretch/>
        </p:blipFill>
        <p:spPr>
          <a:xfrm>
            <a:off x="2571840" y="1641600"/>
            <a:ext cx="3456000" cy="286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Rectangle 9"/>
          <p:cNvSpPr/>
          <p:nvPr/>
        </p:nvSpPr>
        <p:spPr>
          <a:xfrm>
            <a:off x="1182600" y="4795920"/>
            <a:ext cx="642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беличасте линије пода и крова канала се губе, а интензитет сенке корена је слаби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0" y="6424560"/>
            <a:ext cx="39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718E-6CC5-4EF8-A2D1-A5DEA215335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85" name="Picture 9" descr="C:\Documents and Settings\Biocanin\Desktop\Slika0368.jpg"/>
          <p:cNvPicPr/>
          <p:nvPr/>
        </p:nvPicPr>
        <p:blipFill>
          <a:blip r:embed="rId1"/>
          <a:srcRect l="0" t="0" r="0" b="21333"/>
          <a:stretch/>
        </p:blipFill>
        <p:spPr>
          <a:xfrm>
            <a:off x="2674800" y="1319040"/>
            <a:ext cx="3444840" cy="3613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6" name="Rectangle 8"/>
          <p:cNvSpPr/>
          <p:nvPr/>
        </p:nvSpPr>
        <p:spPr>
          <a:xfrm>
            <a:off x="1335240" y="4952880"/>
            <a:ext cx="660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Затамњење у виду „црне траке“ мандибуларног канала која укршта корен умњака - бочни контакт мандибуларног канала и коренова умњака или перфорација лингвалног кортекс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Date Placeholder 3"/>
          <p:cNvSpPr/>
          <p:nvPr/>
        </p:nvSpPr>
        <p:spPr>
          <a:xfrm>
            <a:off x="0" y="6424560"/>
            <a:ext cx="4035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2590-21A5-4316-B507-746FA135EF9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41360" y="140760"/>
            <a:ext cx="8702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191" name="Picture 6" descr="C:\Users\Vladimir\Desktop\mandibularni kanal i treci molar\slike\juxta apical radiolucency.jpg"/>
          <p:cNvPicPr/>
          <p:nvPr/>
        </p:nvPicPr>
        <p:blipFill>
          <a:blip r:embed="rId1"/>
          <a:stretch/>
        </p:blipFill>
        <p:spPr>
          <a:xfrm>
            <a:off x="2874960" y="3754440"/>
            <a:ext cx="3595680" cy="2546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Rectangle 7"/>
          <p:cNvSpPr/>
          <p:nvPr/>
        </p:nvSpPr>
        <p:spPr>
          <a:xfrm>
            <a:off x="1119240" y="1685880"/>
            <a:ext cx="65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0000"/>
                </a:solidFill>
                <a:latin typeface="Palatino Linotype"/>
                <a:ea typeface="Times New Roman"/>
              </a:rPr>
              <a:t>Апикални контакт </a:t>
            </a:r>
            <a:r>
              <a:rPr b="0" lang="sr-CS" sz="2400" spc="-1" strike="noStrike">
                <a:solidFill>
                  <a:srgbClr val="ff0000"/>
                </a:solidFill>
                <a:latin typeface="Palatino Linotype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тракасто расветљење око апекса корена, некад са губитком беличасте линије крова канала тзв.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juxta apical radiolucency</a:t>
            </a:r>
            <a:r>
              <a:rPr b="0" lang="sr-Latn-CS" sz="2400" spc="-1" strike="noStrike">
                <a:solidFill>
                  <a:srgbClr val="000000"/>
                </a:solidFill>
                <a:latin typeface="Palatino Linotype"/>
                <a:ea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ACC6-E705-414E-964B-274D448D0CD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97" name="TextBox 8"/>
          <p:cNvSpPr/>
          <p:nvPr/>
        </p:nvSpPr>
        <p:spPr>
          <a:xfrm>
            <a:off x="444600" y="2093760"/>
            <a:ext cx="820584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Palatino Linotype"/>
              </a:rPr>
              <a:t>ХИРУРШКИ ПОСТУП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ормирање мукопериосталног реж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тварање приступа зубу уклањањем одређене количине 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ађење зуба применом сепарације коренова његових делова или зуба у це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брада и дебридман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0" y="6424560"/>
            <a:ext cx="3925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4101-43EB-4C23-9093-747F74E6F3B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02" name="TextBox 7"/>
          <p:cNvSpPr/>
          <p:nvPr/>
        </p:nvSpPr>
        <p:spPr>
          <a:xfrm>
            <a:off x="444600" y="1684440"/>
            <a:ext cx="82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ОРМИРАЊЕ РЕЖ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7" descr="C:\Users\Zoran\Downloads\oralna hirurgija\slike\download (24).jpg"/>
          <p:cNvPicPr/>
          <p:nvPr/>
        </p:nvPicPr>
        <p:blipFill>
          <a:blip r:embed="rId1"/>
          <a:stretch/>
        </p:blipFill>
        <p:spPr>
          <a:xfrm>
            <a:off x="504720" y="2351160"/>
            <a:ext cx="3318120" cy="2158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C:\Users\Zoran\Downloads\oralna hirurgija\slike\imagesJJH.jpg"/>
          <p:cNvPicPr/>
          <p:nvPr/>
        </p:nvPicPr>
        <p:blipFill>
          <a:blip r:embed="rId2"/>
          <a:stretch/>
        </p:blipFill>
        <p:spPr>
          <a:xfrm>
            <a:off x="5396040" y="2308320"/>
            <a:ext cx="3170160" cy="2143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C:\Users\Zoran\Downloads\oralna hirurgija\slike\imagesGTR.jpg"/>
          <p:cNvPicPr/>
          <p:nvPr/>
        </p:nvPicPr>
        <p:blipFill>
          <a:blip r:embed="rId3"/>
          <a:srcRect l="7891" t="4006" r="6978" b="6060"/>
          <a:stretch/>
        </p:blipFill>
        <p:spPr>
          <a:xfrm>
            <a:off x="2935440" y="4222800"/>
            <a:ext cx="3033720" cy="21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3"/>
          <p:cNvSpPr/>
          <p:nvPr/>
        </p:nvSpPr>
        <p:spPr>
          <a:xfrm>
            <a:off x="0" y="6424560"/>
            <a:ext cx="39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5BCB-944A-4CD4-B332-BEE8F3A4E78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10" name="Picture 8" descr="C:\Users\Zoran\Downloads\oralna hirurgija\slike\imagesNNNN.jpg"/>
          <p:cNvPicPr/>
          <p:nvPr/>
        </p:nvPicPr>
        <p:blipFill>
          <a:blip r:embed="rId1"/>
          <a:stretch/>
        </p:blipFill>
        <p:spPr>
          <a:xfrm>
            <a:off x="2376360" y="2517840"/>
            <a:ext cx="4181760" cy="3130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8"/>
          <p:cNvSpPr/>
          <p:nvPr/>
        </p:nvSpPr>
        <p:spPr>
          <a:xfrm>
            <a:off x="517680" y="1612800"/>
            <a:ext cx="79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УКЛАЊАЊ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К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0" y="6424560"/>
            <a:ext cx="3846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B458-D5BE-45EA-8C40-9B6586E5935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16" name="Picture 9" descr="C:\Users\Zoran\Downloads\oralna hirurgija\slike\download (25).jpg"/>
          <p:cNvPicPr/>
          <p:nvPr/>
        </p:nvPicPr>
        <p:blipFill>
          <a:blip r:embed="rId1"/>
          <a:stretch/>
        </p:blipFill>
        <p:spPr>
          <a:xfrm>
            <a:off x="0" y="2149560"/>
            <a:ext cx="3238560" cy="2374920"/>
          </a:xfrm>
          <a:prstGeom prst="rect">
            <a:avLst/>
          </a:prstGeom>
          <a:ln w="0">
            <a:noFill/>
          </a:ln>
        </p:spPr>
      </p:pic>
      <p:sp>
        <p:nvSpPr>
          <p:cNvPr id="217" name="TextBox 9"/>
          <p:cNvSpPr/>
          <p:nvPr/>
        </p:nvSpPr>
        <p:spPr>
          <a:xfrm>
            <a:off x="457200" y="1612800"/>
            <a:ext cx="814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ЂЕЊЕ ЗУ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0" descr="C:\Users\Zoran\Downloads\oralna hirurgija\slike\431958813_640.jpg"/>
          <p:cNvPicPr/>
          <p:nvPr/>
        </p:nvPicPr>
        <p:blipFill>
          <a:blip r:embed="rId2"/>
          <a:srcRect l="846" t="0" r="0" b="10323"/>
          <a:stretch/>
        </p:blipFill>
        <p:spPr>
          <a:xfrm>
            <a:off x="5411880" y="1273320"/>
            <a:ext cx="3570120" cy="24206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C:\Users\Zoran\Downloads\oralna hirurgija\slike\431958658_640.jpg"/>
          <p:cNvPicPr/>
          <p:nvPr/>
        </p:nvPicPr>
        <p:blipFill>
          <a:blip r:embed="rId3"/>
          <a:srcRect l="22238" t="0" r="-44" b="15863"/>
          <a:stretch/>
        </p:blipFill>
        <p:spPr>
          <a:xfrm>
            <a:off x="3274920" y="3741840"/>
            <a:ext cx="3324240" cy="269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0" y="6424560"/>
            <a:ext cx="39099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B096-C543-45CE-A9AC-1DB79FE1225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до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24" name="TextBox 7"/>
          <p:cNvSpPr/>
          <p:nvPr/>
        </p:nvSpPr>
        <p:spPr>
          <a:xfrm>
            <a:off x="444600" y="1697040"/>
            <a:ext cx="821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ДЕБРИДМАН 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C:\Users\Zoran\Downloads\oralna hirurgija\slike\images55454.jpg"/>
          <p:cNvPicPr/>
          <p:nvPr/>
        </p:nvPicPr>
        <p:blipFill>
          <a:blip r:embed="rId1"/>
          <a:stretch/>
        </p:blipFill>
        <p:spPr>
          <a:xfrm>
            <a:off x="426960" y="2709720"/>
            <a:ext cx="3700440" cy="2772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C:\Users\Zoran\Downloads\oralna hirurgija\slike\images6665.jpg"/>
          <p:cNvPicPr/>
          <p:nvPr/>
        </p:nvPicPr>
        <p:blipFill>
          <a:blip r:embed="rId2"/>
          <a:srcRect l="2984" t="17426" r="0" b="5451"/>
          <a:stretch/>
        </p:blipFill>
        <p:spPr>
          <a:xfrm>
            <a:off x="4813200" y="2874960"/>
            <a:ext cx="39942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импакције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95EB-5152-4B5C-8B6C-1C18F8ECB29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44600" y="1528920"/>
            <a:ext cx="8181720" cy="59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 за изостанак ницања зуба и његову импакцију нису  у потпуности разјашњ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зи могу бити бројн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достатак простора у зубном луку један је од најчешћих фактора који доприносе овој поја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правилан положај клице зуба може бити узрок изостанка ницања и у случајевима када је простор у зубном луку  довољ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граничен раст вилица у антеро-постериорном правцу може створити услове за тескобу зуба и импакцију зуба који последњи ничу ( доњи умњаци ) због недостатка простора између  другог молара и рамуса мандибу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Date Placeholder 3"/>
          <p:cNvSpPr/>
          <p:nvPr/>
        </p:nvSpPr>
        <p:spPr>
          <a:xfrm>
            <a:off x="0" y="6424560"/>
            <a:ext cx="3736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0F7D-3897-46F9-87B5-DA28057CD0C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pic>
        <p:nvPicPr>
          <p:cNvPr id="231" name="Picture 8" descr="C:\Users\Zoran\Downloads\oralna hirurgija\slike\Upper_3rd_Molar_Impaction_Classification_2-578x505.jpg"/>
          <p:cNvPicPr/>
          <p:nvPr/>
        </p:nvPicPr>
        <p:blipFill>
          <a:blip r:embed="rId1"/>
          <a:srcRect l="0" t="0" r="608" b="27737"/>
          <a:stretch/>
        </p:blipFill>
        <p:spPr>
          <a:xfrm>
            <a:off x="1614600" y="2400480"/>
            <a:ext cx="5472000" cy="3474720"/>
          </a:xfrm>
          <a:prstGeom prst="rect">
            <a:avLst/>
          </a:prstGeom>
          <a:ln w="0">
            <a:noFill/>
          </a:ln>
        </p:spPr>
      </p:pic>
      <p:sp>
        <p:nvSpPr>
          <p:cNvPr id="232" name="TextBox 9"/>
          <p:cNvSpPr/>
          <p:nvPr/>
        </p:nvSpPr>
        <p:spPr>
          <a:xfrm>
            <a:off x="469800" y="1563840"/>
            <a:ext cx="816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линичка и радиоградска процена хируршког поступ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Date Placeholder 3"/>
          <p:cNvSpPr/>
          <p:nvPr/>
        </p:nvSpPr>
        <p:spPr>
          <a:xfrm>
            <a:off x="0" y="6424560"/>
            <a:ext cx="3753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414E-A3A7-4FFE-83B0-89830F66EB8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469800" y="1697040"/>
            <a:ext cx="812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цизија за приступ импактираном зубу се прави по алвеоларном гребену, дистално од другог молара и екстендира косо у форникс од његове букодисталне ив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7" descr="C:\Users\Zoran\Downloads\oralna hirurgija\slike\imagesjuuuu.jpg"/>
          <p:cNvPicPr/>
          <p:nvPr/>
        </p:nvPicPr>
        <p:blipFill>
          <a:blip r:embed="rId1"/>
          <a:srcRect l="1152" t="11850" r="53462" b="55925"/>
          <a:stretch/>
        </p:blipFill>
        <p:spPr>
          <a:xfrm>
            <a:off x="1455840" y="2898720"/>
            <a:ext cx="565452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CB24-4225-4BD2-8DC1-B24BFAC08F9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29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ум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9" descr="C:\Users\Zoran\Downloads\oralna hirurgija\slike\imagesjuuuu.jpg"/>
          <p:cNvPicPr/>
          <p:nvPr/>
        </p:nvPicPr>
        <p:blipFill>
          <a:blip r:embed="rId1"/>
          <a:srcRect l="50495" t="11850" r="2628" b="54606"/>
          <a:stretch/>
        </p:blipFill>
        <p:spPr>
          <a:xfrm>
            <a:off x="2514600" y="1528920"/>
            <a:ext cx="3956040" cy="2122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C:\Users\Zoran\Downloads\oralna hirurgija\slike\imagesjuuuu.jpg"/>
          <p:cNvPicPr/>
          <p:nvPr/>
        </p:nvPicPr>
        <p:blipFill>
          <a:blip r:embed="rId2"/>
          <a:srcRect l="0" t="59232" r="1152" b="0"/>
          <a:stretch/>
        </p:blipFill>
        <p:spPr>
          <a:xfrm>
            <a:off x="1920960" y="4054320"/>
            <a:ext cx="5234040" cy="16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Date Placeholder 3"/>
          <p:cNvSpPr/>
          <p:nvPr/>
        </p:nvSpPr>
        <p:spPr>
          <a:xfrm>
            <a:off x="0" y="6424560"/>
            <a:ext cx="3862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F3AFF-C91C-411E-90F8-F18AA46401E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6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Хируршко вађење импактираних горњих очњак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250" name="TextBox 6"/>
          <p:cNvSpPr/>
          <p:nvPr/>
        </p:nvSpPr>
        <p:spPr>
          <a:xfrm>
            <a:off x="444600" y="1768320"/>
            <a:ext cx="8170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орњи очњаци најчешће остају импактирани због недостатка простора за њихов смештај у вилици у којој су већ никли секутићи и премола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чешћа клиничка манифестација присуства импактираног очњака је лабављење латералног секутића или присуство млечног предходника након 12 године живо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7" descr="C:\Users\Zoran\Downloads\oralna hirurgija\slike\download (22).jpg"/>
          <p:cNvPicPr/>
          <p:nvPr/>
        </p:nvPicPr>
        <p:blipFill>
          <a:blip r:embed="rId1"/>
          <a:stretch/>
        </p:blipFill>
        <p:spPr>
          <a:xfrm>
            <a:off x="582480" y="3747960"/>
            <a:ext cx="2813040" cy="2482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8" descr="C:\Users\Zoran\Downloads\oralna hirurgija\slike\imagestroj.jpg"/>
          <p:cNvPicPr/>
          <p:nvPr/>
        </p:nvPicPr>
        <p:blipFill>
          <a:blip r:embed="rId2"/>
          <a:stretch/>
        </p:blipFill>
        <p:spPr>
          <a:xfrm>
            <a:off x="3622680" y="3708360"/>
            <a:ext cx="536724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импакције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2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A6990-138F-4195-BD71-1E450C8FD2B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420840" y="1925640"/>
            <a:ext cx="8218440" cy="35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иброзна задебљања мукопериоста, као и склероза кости или задебљања слузокоже, могу механички ометати и задржати зуб у ницањ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ицање зуба могу ометати и присутни, такође импактирани, прекобројни зуби, као и друга патолошка стања – одонтоми, цисте или тумо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еизникли зуби могу бити одлика и неких генерализованих синдрома, као што су Гролинов синдром или клеидокранијалних дисто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77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CC22-2B58-44C5-982C-845F5D46D27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457200" y="1697040"/>
            <a:ext cx="81932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ијагноза импактираних зуба поставља се на основу анамнезе, детаљног клиничког прегледа и начињене радиограф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АМНЕ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ако неизникли и импактирани зуби углавном не причињавају сметње пацијентима, понекад блага нелагодност прати ницање ових зуба, поготову у стадијуму заузимања правилног положаја за ниц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су у питању доњи умњаци, ове нелагодности често бивју потенциране клиничком сликом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коронитис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који често компликују ницање ових зуба и често рецидивирај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0" y="6424560"/>
            <a:ext cx="3906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8373-155F-462E-A3BC-BE32C8D4BC1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444600" y="1576440"/>
            <a:ext cx="81946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јманифеснији симптоми перикоронитиса су бол и тризм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Бол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је туп или пулсирајући, веома интезиван, причињава сметње при гутању и отварању у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Тризму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може бити само назначен или интезив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Перикоронити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може да се компликује ширењем инфекције у суседне просторе ( субмандибуларни, масетерични и птеригомандибуларн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3A30D-83A3-481F-9E7B-75D96F691CB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457200" y="1684440"/>
            <a:ext cx="82296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ЛИНИЧКИ НАЛА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стојање тумефакта у пределу где би требао да постоји зуб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зистентан млечни зуб у старосној доби када би требало да су изникли стални зуб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ликом прегледа, посебну пажњу треба обратити на зубе у суседству неизниклог зуба и проверити евентуално присуство каријеса или пародонталног џеп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неким случајевима може се сондом кроз постојећи пародонтални џеп контактирати круна импактираног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A759-E485-4483-99E7-63BA43EEC610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80960" y="1636560"/>
            <a:ext cx="81216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пак, без обзира на налазе који се добију клиничким прегледом, радиографски преглед остаје незаобилазни метод  дијагнозе  и процене положаја импактираног зуба у склопу општег терапијског пл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РАДИОГРАФСКИ МЕТ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бар радиографски налаз јасно показује, положај импактираног зуба, морфологију зуба ( број коренова, распоред, повијеност и аномалије), стање околне кости, однос према суседним зубима, удаљеност од доње ивице, ангулуса и рамуса мандибуле, однос према мандибуларном каналу, максиларном синусу, носној шупљини и тубе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6CAB-6622-4F49-8C26-8F5595417A2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Дијагноза импактираних зуба</a:t>
            </a:r>
            <a:endParaRPr b="1" lang="en-US" sz="4000" spc="-1" strike="noStrike">
              <a:solidFill>
                <a:srgbClr val="000066"/>
              </a:solidFill>
              <a:latin typeface="Palatino Linotype"/>
            </a:endParaRPr>
          </a:p>
        </p:txBody>
      </p:sp>
      <p:sp>
        <p:nvSpPr>
          <p:cNvPr id="100" name="TextBox 7"/>
          <p:cNvSpPr/>
          <p:nvPr/>
        </p:nvSpPr>
        <p:spPr>
          <a:xfrm>
            <a:off x="444600" y="1768320"/>
            <a:ext cx="869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циљу добијања жељених података најчешће се корис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нтраорални методи – ретроалвеоларни и аксиј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ртопан сним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rtg-zęba.png"/>
          <p:cNvPicPr/>
          <p:nvPr/>
        </p:nvPicPr>
        <p:blipFill>
          <a:blip r:embed="rId1"/>
          <a:stretch/>
        </p:blipFill>
        <p:spPr>
          <a:xfrm>
            <a:off x="646200" y="3573360"/>
            <a:ext cx="1528560" cy="13366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2"/>
          <a:stretch/>
        </p:blipFill>
        <p:spPr>
          <a:xfrm>
            <a:off x="2494080" y="3139920"/>
            <a:ext cx="4032000" cy="2060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"/>
          <p:cNvPicPr/>
          <p:nvPr/>
        </p:nvPicPr>
        <p:blipFill>
          <a:blip r:embed="rId3"/>
          <a:stretch/>
        </p:blipFill>
        <p:spPr>
          <a:xfrm>
            <a:off x="6708600" y="3625920"/>
            <a:ext cx="1678320" cy="1339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6:02:57Z</dcterms:modified>
  <cp:revision>1405</cp:revision>
  <dc:subject/>
  <dc:title>NAZIV PREDAVANJA</dc:title>
</cp:coreProperties>
</file>